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7E1-B196-4AB0-AD56-E86235C1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DDE-A41C-46EA-818F-253A914B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C1CC-6C00-4AC8-B406-9F8C8A19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2A2-03A6-4979-96A2-00B0AE39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9C5-5919-4282-8315-4FC63AAC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F2F-67A2-42F2-9EFE-ECE5F20A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415-6EE9-455F-B425-D8F9B26C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E9D-93E1-4E26-A5D9-19354379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BBA-43E6-4C18-9363-F9E5E51F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19A-4BB5-4AB2-9BD5-BAEA8999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0A2-FB49-4A23-ABE1-069C2D78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C61-1A39-4A96-B210-E58AD79A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5707-71A0-4421-9430-896261593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ord Am I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nferencing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student will be chosen as “the guesser.”  They will sit under the projector screen.  The teacher will flash one word on the scre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in the audience will try to describe a time when they felt this way.  They may NOT use the word on the scre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uesser will try to guess the word on  sc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more words if desi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tifi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st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ast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ump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litt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9:31:44Z</dcterms:created>
  <dc:creator>Clint</dc:creator>
  <dc:description/>
  <dc:language>en-US</dc:language>
  <cp:lastModifiedBy>Shirley Barclay</cp:lastModifiedBy>
  <dcterms:modified xsi:type="dcterms:W3CDTF">2013-03-21T21:34:59Z</dcterms:modified>
  <cp:revision>4</cp:revision>
  <dc:subject/>
  <dc:title>What Word Am I?</dc:title>
</cp:coreProperties>
</file>